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250-92ED-4B67-B593-336110AD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502-AA44-486A-87B1-D6F66C3F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408-9F73-45A9-84B8-1065BD1A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A40-74ED-4AAF-9488-47F32D76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5CDB-8EF9-4A42-A6C5-94EE1BC3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685E-04C2-4D44-B0F9-80F4DC0E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E921-DBD1-4FA1-BBCE-3452D408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820C-2FE1-4D04-8BB3-61415FDE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3C68-2FF1-419D-99A2-49A36803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3559-F537-48C9-92B5-4A9DEC44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A3CF-1D4B-497E-945A-8E8E89CA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419-8DCD-455B-B0F0-224633B9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8668-0531-477E-A40C-D365C9D9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6C38-0CB4-4A5A-98B6-049951E9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B269-02A9-4D63-80D2-E153354A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1C70-8438-470D-943A-68746CA6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E091-F90F-4868-8F09-5DF63D05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96E6-F573-4074-8238-6D3A0545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50999-ECFD-4C50-94ED-E03B65BC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F913E-5F19-4A5F-9D7F-B3ED6DC0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C716-38AB-451A-B71D-FEC4B5B9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A255-0B06-4A4F-A2BE-483EBA90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A27-9F39-4994-95A1-E8962BCD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E8D9-98B8-46F0-8EBA-D45AA711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A8F98-35E8-4731-BF51-195C085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685D-EF5D-4C7F-9A1C-91F1C90E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F87D-7093-4870-BD75-1B2C540F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61DC-3FC2-497E-B0BC-F86ED40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5B0C-7A1F-4D2B-9AEC-8B28DED0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0FF6-4009-4315-AC08-D0DDDD54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B7D8-0B60-495E-A886-D799F26F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3A1A-19CF-4ADC-B8A7-4BEC5637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AA96C-4435-4980-B197-ED280979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DB7-B4D4-4C73-A147-95257B34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842C7-24C4-4425-A8D3-832E24CC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DE53-6281-4DA2-B58A-40BF49B3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ADCE5-9C8B-4A6D-AE85-566038B5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81AF-ABB4-4150-A750-08A42F25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29C2-C9FF-440B-AA71-9FD04DC9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601AD-2CD4-439E-8D0E-2FB8F40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F6E6-7D56-4CCD-BCAC-BC0A4EF9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52E0-E47F-4773-8B66-4E5980A9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125A-C840-4177-B983-169F8AB2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D35-BA98-43FD-A986-75CE3A16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607-26BF-4FF2-BE95-480CBFFE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069-E6EB-4FF3-96BD-0F09A28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08E-D84F-4492-B9C6-010ACDD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E25-E29A-4255-89D3-8693CC0C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EF2B-A112-4B53-95B6-22016352DA3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241D-F8B0-47D0-9FF2-84692BA3BA3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F958-83F2-4D28-8153-28492DF30B2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0DEF-E2A2-4262-AC9B-5AFCD244584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Spreadsheet Design Rul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057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iction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For every variable in the spread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ll range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is (Raw Data, Statistical Summary, Calculated Variable, Score etc.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.g. Integer, Text, Currency, Date, etc.) an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escription of the data or what it's 'purpose' is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Data Dictionary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C749-A512-4DC3-86B7-FDC62CFA0B5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Data Dictionar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7192-7C73-4A83-AF79-DBC9E47BB1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609480" y="579132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Exercise: Complete the previou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3520" y="1981080"/>
          <a:ext cx="8001000" cy="3581640"/>
        </p:xfrm>
        <a:graphic>
          <a:graphicData uri="http://schemas.openxmlformats.org/drawingml/2006/table">
            <a:tbl>
              <a:tblPr/>
              <a:tblGrid>
                <a:gridCol w="1066680"/>
                <a:gridCol w="2171880"/>
                <a:gridCol w="1028520"/>
                <a:gridCol w="914400"/>
                <a:gridCol w="2819520"/>
              </a:tblGrid>
              <a:tr h="349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A1:A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of Ele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B1:B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sitting presid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C1:C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For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vote for 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DIsposable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!A2:A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1PredictionsforIncumbentAdva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 Advantage as predicted by Mode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between predicted advantage in model 1 and the true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squared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!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Error Square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Square Error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w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Present your raw data in tabular form --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s representing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s representing c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E15D-ABA2-45A7-99D4-4D2F6C47B23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38080" y="2819520"/>
          <a:ext cx="7467840" cy="3281400"/>
        </p:xfrm>
        <a:graphic>
          <a:graphicData uri="http://schemas.openxmlformats.org/drawingml/2006/table">
            <a:tbl>
              <a:tblPr/>
              <a:tblGrid>
                <a:gridCol w="717840"/>
                <a:gridCol w="1106280"/>
                <a:gridCol w="2065320"/>
                <a:gridCol w="1962360"/>
                <a:gridCol w="1616040"/>
              </a:tblGrid>
              <a:tr h="436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For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DIsposable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how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ph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93464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d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Statistic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 variab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2DF9-E695-4805-AA6A-91424A229DF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3124080"/>
          <a:ext cx="7619760" cy="2897280"/>
        </p:xfrm>
        <a:graphic>
          <a:graphicData uri="http://schemas.openxmlformats.org/drawingml/2006/table">
            <a:tbl>
              <a:tblPr/>
              <a:tblGrid>
                <a:gridCol w="3886200"/>
                <a:gridCol w="1371600"/>
                <a:gridCol w="23619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1Predictionsfor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50019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9277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6653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3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3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5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3415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7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8958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52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499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76452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93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porting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CAE2-A647-4567-9423-55C69F72CE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58831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other model (model2) for predicting vote for Incumbent  based on the formu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ForIncumbent = 2.4283(ChangeDisposableIncome) + 46.567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appropriate changes i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predicted value, error, error squared, mean square erro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ictionary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descriptions of the new variables to the data dictionar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and Assumption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new formula and an explanation to i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46B5-E52E-4E7A-A00E-2E16DA2925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nt.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your name, Date, and what changes you mad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the chart for Predicted value for vote in Model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t: you can copy and paste the chart of model 1. Then, you would have to change the Data series, axis titles, and chart tit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 statement that summaries your conclusion about each ch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C4FC-1F53-4A29-88A4-C6CBB5E73EB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4DFD-12EB-428B-80B6-1850B33448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3915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t No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Miscondu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7331-02D8-4276-9BF4-41504737307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als for To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e visual el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Familiar with basic design ru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ABBC-C666-4C0B-84B5-3D791FD1EB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skills you will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ference a cell D2 in another sheet e.g.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!$D$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ference a range D2:D9 in another sheet e.g.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!$D$2:$D$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keyboard shortcu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: ctrl + 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: ctrl + x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: ctrl +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ll: ctrl+ 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o: ctrl + 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: ctrl + 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E4C1-FA70-4946-853A-AB21EF0FE2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Design R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5000"/>
            <a:ext cx="822960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spreadsheet on paper fir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edit your calculation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components of a calculation visi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 The reader should not go over the cell to know the number you multiplied b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2D18-A806-4B72-A06B-7B36D4DEF08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Design Rules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ware of the "space" or "geography" of the spreadsheet. Arrange your information so that it is well spaced and easy to take in at a glan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use as many sheets as you c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give meaningful names to columns, rows, and shee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rap text, shrink to fit, and merge cel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better visualization for tex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0EB1-73A4-4501-9505-BEC6C97A601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3472-74AE-467D-8C07-A8BFF17B35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295280"/>
          <a:ext cx="8763120" cy="457200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  <a:gridCol w="876600"/>
                <a:gridCol w="876240"/>
                <a:gridCol w="876240"/>
                <a:gridCol w="876240"/>
                <a:gridCol w="876240"/>
                <a:gridCol w="876240"/>
                <a:gridCol w="876600"/>
                <a:gridCol w="876240"/>
              </a:tblGrid>
              <a:tr h="1122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teFor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DIsposable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1Predictionsfor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 1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 1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2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392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senhow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5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26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03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5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3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ph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7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7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2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4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Error Square for Mod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76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What is this spreadsheet or workbook abou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Introduction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8E4D-A203-4551-8BBE-7F91FD662D0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2357280"/>
          <a:ext cx="7543800" cy="4043520"/>
        </p:xfrm>
        <a:graphic>
          <a:graphicData uri="http://schemas.openxmlformats.org/drawingml/2006/table">
            <a:tbl>
              <a:tblPr/>
              <a:tblGrid>
                <a:gridCol w="1122480"/>
                <a:gridCol w="583920"/>
                <a:gridCol w="582840"/>
                <a:gridCol w="584280"/>
                <a:gridCol w="583920"/>
                <a:gridCol w="584280"/>
                <a:gridCol w="582840"/>
                <a:gridCol w="583920"/>
                <a:gridCol w="584280"/>
                <a:gridCol w="584280"/>
                <a:gridCol w="582480"/>
                <a:gridCol w="584280"/>
              </a:tblGrid>
              <a:tr h="274680">
                <a:tc gridSpan="5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: Political Control of the Econo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11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spreadsheet is based on a Data Set by Edward R Tufte gathered from U.S. Presidential elections between 198 and 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Tufte's data we look at Incumbent Advantage in terms of Change in Real Disposable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Political Control of the Econom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Edward, R. Tuf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 University Press, 1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121 to 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our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5.5 from above reference, pp. 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Dina Said in Jan 27, 2009 to be used in CPSC 203, week 2-lab 2 as a sample of a well-designed work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and Assump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ModelAndAssumptions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C2A3-683D-4EFB-B391-8A29AF6E83D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5800" y="2743200"/>
          <a:ext cx="7086600" cy="3660840"/>
        </p:xfrm>
        <a:graphic>
          <a:graphicData uri="http://schemas.openxmlformats.org/drawingml/2006/table">
            <a:tbl>
              <a:tblPr/>
              <a:tblGrid>
                <a:gridCol w="708120"/>
                <a:gridCol w="709560"/>
                <a:gridCol w="708120"/>
                <a:gridCol w="709560"/>
                <a:gridCol w="708120"/>
                <a:gridCol w="707760"/>
                <a:gridCol w="709560"/>
                <a:gridCol w="708120"/>
                <a:gridCol w="709560"/>
                <a:gridCol w="708120"/>
              </a:tblGrid>
              <a:tr h="2858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&amp; Assu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gridSpan="10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developed a linear Model with" IncumbentAdvantage" as a Function of "ChangeDisposableIncome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Formula i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 = 0.1456ChangeDisposableIncome - 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R-Squared i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u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ssume a linear Model is Appropri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gridSpan="8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n the dispersion of the data, and low R-Squared -- this assumption may not be 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1-28T06:52:02Z</dcterms:modified>
  <cp:revision>159</cp:revision>
  <dc:subject/>
  <dc:title>CPSC 203</dc:title>
</cp:coreProperties>
</file>